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638A3-8EA9-4E14-88C3-F52DBAFB4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2EBDF-06CE-4CDF-B3C5-717F6D7B4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EF80A-09A4-44C2-8D9B-82648C8C4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8EC10-18C8-43CF-A1EF-9CFB49A3B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16238-FBB0-4741-8CCE-6153A5327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68E8E-40C9-49DE-A3ED-2DB3ED9FD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305B0-5BB0-4763-AF68-A6557C160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C272E-FBCF-49FC-91BC-FC7E951B3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C4F91-536A-482A-81E6-839CD87CD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E65C1-B7EF-447A-BAE4-A4871E7F2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D656E-8444-4898-BC69-F1DEBB7EE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C50F0-A770-46C5-B8B8-9AC4A7933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F8F7-FBCA-48A4-A396-D79F356B05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mbgnet.mobot.org/" TargetMode="External"/><Relationship Id="rId2" Type="http://schemas.openxmlformats.org/officeDocument/2006/relationships/hyperlink" Target="http://www.blueplanetbiomes.org/world_biomes.htm" TargetMode="External"/><Relationship Id="rId3" Type="http://schemas.openxmlformats.org/officeDocument/2006/relationships/hyperlink" Target="http://www.ucmp.berkeley.edu/exhibits/biomes/index.php" TargetMode="External"/><Relationship Id="rId4" Type="http://schemas.openxmlformats.org/officeDocument/2006/relationships/hyperlink" Target="http://www.ucmp.berkeley.edu/exhibits/biomes/index.php"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er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Uccelletti and Mike Simon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ow does off-road driving hurt the desert biome?</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at is a deser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Name three types of commercial value.</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Where do animals get water from?</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How much rain does a desert get in a year?</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What is one adaptation of a plant to live in the dese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mbgnet.mobot.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blueplanetbiomes.org/world_biomes.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a:t>
            </a:r>
            <a:r>
              <a:rPr b="0" lang="en-US" sz="3200" spc="-1" strike="noStrike" u="sng">
                <a:solidFill>
                  <a:srgbClr val="009999"/>
                </a:solidFill>
                <a:uFillTx/>
                <a:latin typeface="Arial"/>
                <a:hlinkClick r:id="rId4"/>
              </a:rPr>
              <a:t>www.ucmp.berkeley.edu/exhibits/biomes/index.ph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533520" y="4952880"/>
            <a:ext cx="8229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1,3,5,6, split 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ke-2,4,7,8, split 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p Where Deserts Are Located</a:t>
            </a:r>
            <a:endParaRPr b="0" lang="en-US" sz="4000" spc="-1" strike="noStrike">
              <a:solidFill>
                <a:srgbClr val="000000"/>
              </a:solidFill>
              <a:latin typeface="Arial"/>
            </a:endParaRPr>
          </a:p>
        </p:txBody>
      </p:sp>
      <p:pic>
        <p:nvPicPr>
          <p:cNvPr id="44" name="" descr=""/>
          <p:cNvPicPr/>
          <p:nvPr/>
        </p:nvPicPr>
        <p:blipFill>
          <a:blip r:embed="rId1"/>
          <a:stretch/>
        </p:blipFill>
        <p:spPr>
          <a:xfrm>
            <a:off x="2133720" y="1219320"/>
            <a:ext cx="4876560" cy="3138480"/>
          </a:xfrm>
          <a:prstGeom prst="rect">
            <a:avLst/>
          </a:prstGeom>
          <a:ln w="0">
            <a:noFill/>
          </a:ln>
        </p:spPr>
      </p:pic>
      <p:sp>
        <p:nvSpPr>
          <p:cNvPr id="45" name=""/>
          <p:cNvSpPr/>
          <p:nvPr/>
        </p:nvSpPr>
        <p:spPr>
          <a:xfrm>
            <a:off x="990720" y="480060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ert is an area in the world where it does not get more than 10 inches of rainfall annu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logical Feature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ff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d du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y so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d deser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untai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vel</a:t>
            </a:r>
            <a:endParaRPr b="0" lang="en-US" sz="2800" spc="-1" strike="noStrike">
              <a:solidFill>
                <a:srgbClr val="000000"/>
              </a:solidFill>
              <a:latin typeface="Arial"/>
            </a:endParaRPr>
          </a:p>
        </p:txBody>
      </p:sp>
      <p:pic>
        <p:nvPicPr>
          <p:cNvPr id="48" name="" descr=""/>
          <p:cNvPicPr/>
          <p:nvPr/>
        </p:nvPicPr>
        <p:blipFill>
          <a:blip r:embed="rId1"/>
          <a:stretch/>
        </p:blipFill>
        <p:spPr>
          <a:xfrm>
            <a:off x="3429000" y="304812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perature and Precipitation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desert most days temperature reaches over 100 degrees Fahrenheit.  At night the temperature drop to about 40-50 degrees Fahrenh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sert gets about less than 10 inches of rainfall a year.</a:t>
            </a:r>
            <a:endParaRPr b="0" lang="en-US" sz="3200" spc="-1" strike="noStrike">
              <a:solidFill>
                <a:srgbClr val="000000"/>
              </a:solidFill>
              <a:latin typeface="Arial"/>
            </a:endParaRPr>
          </a:p>
        </p:txBody>
      </p:sp>
      <p:pic>
        <p:nvPicPr>
          <p:cNvPr id="51" name="" descr=""/>
          <p:cNvPicPr/>
          <p:nvPr/>
        </p:nvPicPr>
        <p:blipFill>
          <a:blip r:embed="rId1"/>
          <a:stretch/>
        </p:blipFill>
        <p:spPr>
          <a:xfrm>
            <a:off x="5243400" y="4257720"/>
            <a:ext cx="3900600" cy="2600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Pla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gon Tree- is not found in American deserts, it has a sap that hardens to dark red called “dragon’s blood”, found in Canary Islan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rt Spoon- has thick leaves that hold in water, sugary sap can be made into a drink that is called sot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ucca- is a hardy plant, lives in a wide variety of environments</a:t>
            </a:r>
            <a:endParaRPr b="0" lang="en-US" sz="3200" spc="-1" strike="noStrike">
              <a:solidFill>
                <a:srgbClr val="000000"/>
              </a:solidFill>
              <a:latin typeface="Arial"/>
            </a:endParaRPr>
          </a:p>
        </p:txBody>
      </p:sp>
      <p:pic>
        <p:nvPicPr>
          <p:cNvPr id="54" name="" descr=""/>
          <p:cNvPicPr/>
          <p:nvPr/>
        </p:nvPicPr>
        <p:blipFill>
          <a:blip r:embed="rId1"/>
          <a:stretch/>
        </p:blipFill>
        <p:spPr>
          <a:xfrm>
            <a:off x="6705720" y="0"/>
            <a:ext cx="2438280" cy="161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Animals</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229600" cy="3352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ax – Eats plants and lives in sandy and stony parts of the dese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ngo – Eats large mammals and lives in sandy desert to wet and dry fo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ppet-faced vulture – Eats carrion which is dead food.  Lives in bushes and deserts.</a:t>
            </a:r>
            <a:endParaRPr b="0" lang="en-US" sz="3200" spc="-1" strike="noStrike">
              <a:solidFill>
                <a:srgbClr val="000000"/>
              </a:solidFill>
              <a:latin typeface="Arial"/>
            </a:endParaRPr>
          </a:p>
        </p:txBody>
      </p:sp>
      <p:pic>
        <p:nvPicPr>
          <p:cNvPr id="57" name="" descr=""/>
          <p:cNvPicPr/>
          <p:nvPr/>
        </p:nvPicPr>
        <p:blipFill>
          <a:blip r:embed="rId1"/>
          <a:stretch/>
        </p:blipFill>
        <p:spPr>
          <a:xfrm>
            <a:off x="0" y="4802040"/>
            <a:ext cx="2743200" cy="2055960"/>
          </a:xfrm>
          <a:prstGeom prst="rect">
            <a:avLst/>
          </a:prstGeom>
          <a:ln w="0">
            <a:noFill/>
          </a:ln>
        </p:spPr>
      </p:pic>
      <p:pic>
        <p:nvPicPr>
          <p:cNvPr id="58" name="" descr=""/>
          <p:cNvPicPr/>
          <p:nvPr/>
        </p:nvPicPr>
        <p:blipFill>
          <a:blip r:embed="rId2"/>
          <a:stretch/>
        </p:blipFill>
        <p:spPr>
          <a:xfrm>
            <a:off x="6248520" y="4853160"/>
            <a:ext cx="2895480" cy="200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ation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cti have spines instead of leaves to hold in more wa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ngaroo rats don’t have to drink water, they get their water from the content in their f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la Monsters store water in their fatty tissue.  It produces energy as well as wa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Impac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ff-road driving is an impact of humans. It can kill animals that are on the ground or under the sand. It can kill plants which can lead to killing animals because of dehyd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rcial Valu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m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ur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4876920" y="2590920"/>
            <a:ext cx="426708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3:13:01Z</dcterms:created>
  <dc:creator>xpstudent</dc:creator>
  <dc:description/>
  <dc:language>en-US</dc:language>
  <cp:lastModifiedBy>xpstudent</cp:lastModifiedBy>
  <dcterms:modified xsi:type="dcterms:W3CDTF">2010-10-28T13:06:36Z</dcterms:modified>
  <cp:revision>8</cp:revision>
  <dc:subject/>
  <dc:title>Desert </dc:title>
</cp:coreProperties>
</file>